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7E2-1E4E-4910-8830-8F9851A4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D16-0DFA-4249-A600-CCC171AE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36F-9C7F-4EE2-B03A-76D5AB45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A14-0563-45DF-8E98-683982B2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55FF-D5B8-49A3-9BA7-7A0C7218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CC59-8046-44BE-A340-51539BD6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AFCB-8286-4009-ABB1-8FDE6ACD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B1A0-59DB-4B6D-BA6B-05B5162C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DDF0-C616-46C5-B4FE-3F2783B1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3CC3-8716-4156-99EF-100633AA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9538-59CF-4D7B-9CB0-B4882463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3AAA-9C9D-45E4-ADEE-4AD5F3CA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6076-716C-431B-AAB9-A1041C08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87A8-93F5-4A21-B654-E97C15EE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CFD4-BF83-49EB-9B59-133979EA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1E11-0493-4D67-822D-8D64855D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F78D-F6EE-4104-B5B1-78B5527F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8029-4386-4914-BE6D-EB5D3B9E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6A9-0145-40F8-95EA-1CBE9FF0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A8A-317C-4484-B1B4-3818B62B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0EE-032E-4E9A-92C5-6CEE0336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E347-C2DE-4C49-9C78-E0432348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55F-E8F8-4D28-9E2A-4095F1B9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7D6-97E0-490D-9E39-14362E39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597D-4E2D-44CF-9E6E-9D5C36E242F4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C170-F3A2-4407-AF09-DC9E610A2AE7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it.wikispaces.com/" TargetMode="External"/><Relationship Id="rId2" Type="http://schemas.openxmlformats.org/officeDocument/2006/relationships/hyperlink" Target="http://oit.wikispaces.com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Get Going with </a:t>
            </a:r>
            <a:br>
              <a:rPr sz="4000"/>
            </a:b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Wikispaces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Follow these steps as you work.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1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- Explore several different pages on the OIT wiki</a:t>
            </a:r>
            <a:br>
              <a:rPr sz="2800"/>
            </a:b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2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- Make a list of the types of files found on the OIT wiki</a:t>
            </a:r>
            <a:br>
              <a:rPr sz="2800"/>
            </a:b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3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- Discuss how these pages make the work of OIT staff easier and more effective</a:t>
            </a:r>
            <a:br>
              <a:rPr sz="2800"/>
            </a:b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4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- Work with group members to make a list of the different pages we might include in an ISquad wiki</a:t>
            </a:r>
            <a:br>
              <a:rPr sz="2800"/>
            </a:b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sk selected participants to share resources they found on the OIT wiki and their value to the OIT staff.</a:t>
            </a:r>
            <a:br>
              <a:rPr sz="2400"/>
            </a:b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ead a discussion about how a wiki could make the ISquad more effective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ompile a list of resources that might be included on an ISquad wiki.</a:t>
            </a:r>
            <a:br>
              <a:rPr sz="2400"/>
            </a:b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 do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can a wiki make us more effective as an ISquad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wikis?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use a wiki space to make the ISquad more effective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 this session, participants will learn what a wiki is and how a wiki space can be useful for the ISquad and the work they do.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atch me as I show you how I use a wiki to give our teachers a resource that they can use in their classrooms.</a:t>
            </a:r>
            <a:br>
              <a:rPr sz="3200"/>
            </a:b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IS 162 </a:t>
            </a:r>
            <a:r>
              <a:rPr b="0" lang="en-US" sz="3200" spc="-1" strike="noStrike" u="sng">
                <a:solidFill>
                  <a:srgbClr val="995421"/>
                </a:solidFill>
                <a:uFillTx/>
                <a:latin typeface="Arial"/>
                <a:hlinkClick r:id="rId2"/>
              </a:rPr>
              <a:t>Wiki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we will visit a wikispace that is more robust than the 162 space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avigate to http://oit.wikispaces.com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s we navigate through this space, be sure to notice the different resources her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some of the things you notice right away about the OIT wiki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ake the next 15 minutes to poke around in the OIT wiki and make a list of all of the different resources you find there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Be sure to note all the different types of files that are on the OIT wiki. Think about why the different resources might be included in the wiki.</a:t>
            </a:r>
            <a:br>
              <a:rPr sz="2400"/>
            </a:b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fter you have completed your investigation of the OIT wiki, you will use the last 15 minutes to work in your groups to brainstorm a list of the kinds of resources we could include in an ISquad wiki.</a:t>
            </a:r>
            <a:br>
              <a:rPr sz="2400"/>
            </a:b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8-03-01T17:47:19Z</dcterms:modified>
  <cp:revision>4</cp:revision>
  <dc:subject/>
  <dc:title>Workshop Title</dc:title>
</cp:coreProperties>
</file>